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55240" y="933120"/>
            <a:ext cx="434196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59576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E4F-136D-460A-957D-243C5616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75C-1A40-47BF-B9BF-7FC24143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9F8AD-F0F8-436D-99C7-65759461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FAF07-C7DD-4B8C-9679-3E08B8C8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A52F8-BF51-4AD0-9088-7370C561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CDF4A-7676-4429-BB09-BFA4CAF5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35280-C71B-4459-BC39-975C2229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DFFD9-FD5F-424A-9BCC-1FA6BAC0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C463A-388E-40D7-BA80-98C77F48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76B44-A4D3-48DD-909B-3F0A831D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D6950-C284-4394-BED1-1C1E9B16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2044B-ACBA-4971-B08C-E7F9E8A4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1D6-DA36-4207-B063-9F030CF1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6F835-D279-4394-80D8-F771A11C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A5A7D-E3DB-40A4-86FC-71652D42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E89F0-E0E9-4242-B9E5-0650EB52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4E22C-B1E9-48B6-977F-F2C621C5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FC187-DCC6-4B25-9931-9FA068D7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A4CEA-9B3B-40A5-AA92-E799EAC7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CC65C-3CBC-4227-BD1F-26E7E49A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E547E-AA6A-4AFC-A29A-586869AF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82E8A-6FB7-41DA-A169-53827BBD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2E59F-E618-4FA9-A020-213418F1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828-2E94-4D19-AA15-9EF7B850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3FA92-C42B-4BD2-B678-39280249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81A59-8B94-48CC-9E1F-7CAFF3CB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899CA-CAD2-4A69-941D-E2E1CD48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0C274-1792-49E0-97F1-04B83034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3C343-6ACE-4DC1-8A66-952002F8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0D243-F997-4EF1-976A-AE71736D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2E03F-9DAD-433D-8AF0-38F08F1A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36F58-5E32-49A7-9ED1-A3783C63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E48EC-D39B-46E2-9FF0-7D2B5669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7DE8E-80CA-4168-BF18-674C5B7F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9B0E0-971B-44E4-8A9A-618E1479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E108C-0FC6-4D05-B0A5-BA11EBDD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375A6-C9DD-441C-8E4E-E927D2DD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AD3E8-0422-4CF6-9FA8-59F4491F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C771F-59F5-4978-8466-EBECF295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40625-8427-4A75-A802-9BFE3108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CC7CD-0AE9-47E6-AADF-85E829AF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1E447-C113-4C25-9E86-7DE7D7FB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71AE5-D7E5-4062-9933-B4860363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DD208-B981-4EB8-9F48-7EEC3E5C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9A960-2C12-4099-99AB-123D202F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6A246-25F4-4F6A-8C47-AD6A751F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EF0D6-8D9D-4747-8FA6-0CADF6F7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3C4C0-EBCF-4EDA-932E-511CD346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C6C5F-6947-42D6-8759-40AB79CA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512E8-8C1D-452E-A652-3A414843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D9FFC-57CC-420F-8221-E5686C7A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7A806-9254-47BA-9834-0E2F6372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34303-AC4D-44F2-8876-A02BC036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7A251-B73E-4109-AD0B-D7354BAF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F72FB-3338-410C-BB69-F0A1DEDE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2E0A6-8508-490A-8827-5087CDDC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A8BA4-391E-4367-A56F-3CF2557E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145A8-0AF0-49A0-B18B-82D629AA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95F60-DF5A-4802-B6EB-919BCF99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3956B-31CF-4739-A17D-6C3919BA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8939A-A0E0-429E-BEDD-B057587E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EFB57-64B0-4F9A-8C49-FCBAEF64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07F6F-E5E0-46A0-B828-F3F91BFF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50BCB-D7CC-4820-9C2A-2D871974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2539E-5753-419F-96F1-681F9C95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179DB-2F67-4E22-83AD-6261C44E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6586C-DA55-4E75-A839-4388122B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185C4-3762-4ECE-A999-BFAB9D32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78402-9DDC-4DB7-BAA1-87C2A35B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6DEE0-D26B-478C-BFBC-06EDC6B4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A1169-008B-468A-9CB2-C53C5971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A8C07-A2B0-4F04-BED5-FC88DE29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B3495-C549-4EAC-B4A1-7013BB0C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79FBC-D43C-4C22-97DA-94C2C694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795F6-8E1E-4212-8A61-81BAC61B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C1CEC-5537-479B-B444-1ECA2ED7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3B3EB-BDE3-4254-8D51-13773020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82B06-6A3B-4DFD-8F8B-7E94ABAD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85B3B-5CC7-49C4-8176-B16FCF26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0B36A-CE3C-448B-9910-5F8C8EC9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D0AC0-F005-4D8A-8674-363E06F2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1FFA0-0570-47C2-BA71-67C25E47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E8ED3-D7EA-4005-BC78-AA336FAE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9F9EB-0761-48A2-AB28-1D414DA6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C13F4-2013-4600-8EF9-7C6093A4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419BD-7961-4EFC-9271-89FEDE00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8452B1-3D23-4DE2-A49B-19F4B70D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F7869-B4A7-4DE8-A277-9147BEC1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2504F-A29A-47DF-9279-F047FFC5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11368-08F7-4D6C-B51C-68DEA288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7B106-A96B-400A-941E-D821D81D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0C9DD7-5406-46EB-9C5B-03D040B0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17ADDC-7CC4-4FC0-8545-FD6029E1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BF6D8A-EB23-4789-A338-D570F05B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7BBE0-CD41-4286-A6C8-1E1975DA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D81FB-226B-416B-9FDE-756DEC71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68AD1-43ED-4B48-A1A5-A10CE76B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B49-BDC6-4013-A6C5-77324D70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8058-88A4-458B-913C-2EAE4695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785-C585-40D1-8942-9F53CB1A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8401-75B3-4C73-B6C5-F5AED5AF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608A-E09F-4F5A-A136-F42C7FFE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6857-E9EC-4B5B-8CFE-09ACE511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6570-3012-4CD0-B004-1F29EAA2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E8462-7211-48DE-ACCB-266372EF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F748-027E-4096-B8B4-A91731F0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F328-2EE6-47B7-8CBE-57FD9848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A8B6-2D32-4FC1-8A6A-215CADA4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74B8-908A-4E5B-A869-7776BEDA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3AB4-7A05-4B7A-BA5D-0A9DD9CD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C26C-C47E-4F0F-9698-368762B7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6EB3-AE8D-4B53-9E12-B7E17311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E61-6232-45F6-94CC-74A14489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44E6-1A36-48F6-801B-76C53710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927F0-358A-4710-B6DA-69287A94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1D71A-4638-48D2-8640-BA841E60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6E821-CA1D-4CDA-A491-85E7C643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63DBE-D583-4AF5-86CF-87EA5D7E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94FD0-ABFE-432D-ABEE-47FD0A25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A831F-FAA7-45B1-A021-CAA94E54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EBFE7-0EE8-48F9-82BE-D4CE4727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2BD1A-72E9-4230-A2CE-A9959F5D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8A0E7-B690-4B6F-AD96-C99C2215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3A3-8F27-45BC-92B1-A492BE38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A8B44-2AE3-466F-95E5-6FEE89A9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1F1B-0DB2-43D6-867D-531E8016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07384-6F0A-42F9-9E0E-4701E930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C0866-41F8-4853-B31A-3D1961D3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188AB-27AC-48C5-AE60-C4B6482A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86347-1118-4AE5-87AB-95FF07C2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200C0-9C8F-4E69-AFFE-EC197611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8E35C-3FC9-4A41-8A3F-66DF691F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8ECBB-2D4D-40CC-9284-11DDA806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3C377-26EC-4D7B-ADD6-A6F90281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CE3D-8F1E-49D1-8C16-9F634683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7BEEC-22BA-415E-BE77-A49A8829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3DD38-3DC3-4BF1-8CAE-3DA28562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3B2F2-2635-45D0-A058-1D72B584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00F04-C2DD-41F0-B629-3B29EFBF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BE835-19D4-455B-BC77-4BA8A72A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781AE-7A86-4340-9E5F-88779FF3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427F4-B1F9-4A76-907E-179D061C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7F745-B65C-421C-B059-23C5B3B7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C075E-761F-4E55-9924-80B3D471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C275E-DDE8-4DD0-BCA5-EE7D7CD3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F89-A94A-4298-AD3A-6D886C3E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1E835-BCD0-4BCE-B8FE-CDDC3C09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6C7DA-0E94-40D9-A41A-27D8167E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CC334-2818-4D45-A1C3-5C4E78BB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22116-7C1B-4C50-92A0-6EBB3FC2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A3BA4-E34E-4082-89EE-6359AD13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DDA35-8C59-4DA5-B5AE-5C1D2C7A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1A313-1CA0-4623-A9C7-789CC772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BEEB3-3F06-4CF8-AFF1-A08B541E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3D5F2-AEB0-47D4-897C-E093CFF1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BB15C-8C25-4F5F-9E8B-7B5E7130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83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497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087A8C-D278-4C2C-9178-4361677E28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DD24E6-C4BB-4162-AC73-1507640DE07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90B5CC-5C7A-425A-A814-F1FF05A196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0E67C3-4DDA-44D4-96CA-8ED97576DC4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3A726E-D58A-4AC4-AF9F-FC31CDEAF3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6407A8-F1F1-4FBC-8CF4-30EBAA25E2E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51848B-797B-4339-BA1C-9CBDF87D81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749DDD-9980-4AB5-92D1-1491EFB06DC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D640D0-ADC5-45A3-8FBA-D90FCC6B98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5027CB-4651-43EC-876F-16A5CA5E6C0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C98043-AB62-45D7-9DD8-570D0DB146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A1EC40-8D8E-48BC-8DC2-A0AF2EDE493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DC6A27-6262-4B92-9D62-13BF75E82D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A5F323-215B-4608-B247-81BF02094D6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51F198-5717-4E2C-9CD2-6ED71ADEA2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C6AF54-1903-4537-BAB3-2D581EE179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BCA713-3753-4AC0-B062-F3D896B250B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1573B5-7647-4ECE-BCCA-142C541968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CE0010-0C4A-4839-A287-5722F44B1F6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C2F0AF-19F6-4FAE-9A32-A14F6C6397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62C5F9-4BC2-41BA-9984-40A1CC60CDC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78FEEC-8A2E-4B8B-A010-7D8F50FD56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E8D996-41A8-4B4E-8A03-46E846EB525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0534B8-80C8-491F-A953-0329565CF9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Rectangle 1" descr=""/>
          <p:cNvPicPr/>
          <p:nvPr/>
        </p:nvPicPr>
        <p:blipFill>
          <a:blip r:embed="rId2"/>
          <a:stretch/>
        </p:blipFill>
        <p:spPr>
          <a:xfrm>
            <a:off x="1146240" y="1060560"/>
            <a:ext cx="6851520" cy="1444680"/>
          </a:xfrm>
          <a:prstGeom prst="rect">
            <a:avLst/>
          </a:prstGeom>
          <a:ln w="0">
            <a:noFill/>
          </a:ln>
        </p:spPr>
      </p:pic>
      <p:pic>
        <p:nvPicPr>
          <p:cNvPr id="708" name="Прямоугольник 5" descr=""/>
          <p:cNvPicPr/>
          <p:nvPr/>
        </p:nvPicPr>
        <p:blipFill>
          <a:blip r:embed="rId3"/>
          <a:stretch/>
        </p:blipFill>
        <p:spPr>
          <a:xfrm>
            <a:off x="712800" y="341280"/>
            <a:ext cx="7645320" cy="542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оугольник 6"/>
          <p:cNvSpPr/>
          <p:nvPr/>
        </p:nvSpPr>
        <p:spPr>
          <a:xfrm>
            <a:off x="749160" y="3000240"/>
            <a:ext cx="764568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Бурмистровой</a:t>
            </a: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ветланы Ивановны</a:t>
            </a:r>
            <a:br>
              <a:rPr sz="2800"/>
            </a:br>
            <a:r>
              <a:rPr b="1" lang="ru-RU" sz="1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учителя начальных классов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БОУ «Средняя общеобразовательная школа № 7» г. Рузае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solidFill>
            <a:srgbClr val="ffffff"/>
          </a:solidFill>
          <a:ln w="1908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личие авторских программ, методических пособ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8" name="Picture 4" descr="Бурмистрова"/>
          <p:cNvPicPr/>
          <p:nvPr/>
        </p:nvPicPr>
        <p:blipFill>
          <a:blip r:embed="rId2"/>
          <a:stretch/>
        </p:blipFill>
        <p:spPr>
          <a:xfrm>
            <a:off x="2421000" y="1117440"/>
            <a:ext cx="4302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ступления на заседаниях методических советов, научно-практических конференциях, педагогических чтениях, семинарах, секциях, форумах, радиопередачах (очно)</a:t>
            </a: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0" name="Picture 4" descr="Бурсмистрова0004"/>
          <p:cNvPicPr/>
          <p:nvPr/>
        </p:nvPicPr>
        <p:blipFill>
          <a:blip r:embed="rId2"/>
          <a:stretch/>
        </p:blipFill>
        <p:spPr>
          <a:xfrm>
            <a:off x="2606760" y="1571760"/>
            <a:ext cx="39304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2" descr="Бурсмистрова0002"/>
          <p:cNvPicPr/>
          <p:nvPr/>
        </p:nvPicPr>
        <p:blipFill>
          <a:blip r:embed="rId2"/>
          <a:srcRect l="0" t="0" r="0" b="-14"/>
          <a:stretch/>
        </p:blipFill>
        <p:spPr>
          <a:xfrm>
            <a:off x="428760" y="1797120"/>
            <a:ext cx="3786120" cy="49179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3" descr="Бурсмистрова0003"/>
          <p:cNvPicPr/>
          <p:nvPr/>
        </p:nvPicPr>
        <p:blipFill>
          <a:blip r:embed="rId3"/>
          <a:srcRect l="0" t="0" r="0" b="35"/>
          <a:stretch/>
        </p:blipFill>
        <p:spPr>
          <a:xfrm>
            <a:off x="4786200" y="1857240"/>
            <a:ext cx="3873600" cy="4857840"/>
          </a:xfrm>
          <a:prstGeom prst="rect">
            <a:avLst/>
          </a:prstGeom>
          <a:ln w="0">
            <a:noFill/>
          </a:ln>
        </p:spPr>
      </p:pic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ступления на заседаниях методических советов, научно-практических конференциях, педагогических чтениях, семинарах, секциях, форумах, радиопередачах (очно)</a:t>
            </a: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4"/>
          <p:cNvSpPr/>
          <p:nvPr/>
        </p:nvSpPr>
        <p:spPr>
          <a:xfrm>
            <a:off x="2987280" y="1386000"/>
            <a:ext cx="31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униципальны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229600" cy="809640"/>
          </a:xfrm>
          <a:prstGeom prst="rect">
            <a:avLst/>
          </a:prstGeom>
          <a:solidFill>
            <a:srgbClr val="ffffff"/>
          </a:solidFill>
          <a:ln w="1908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дение открытых уроков,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мастер-классов, мероприятий (очно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6" name="Picture 3" descr="Бурсмистрова0001"/>
          <p:cNvPicPr/>
          <p:nvPr/>
        </p:nvPicPr>
        <p:blipFill>
          <a:blip r:embed="rId2"/>
          <a:stretch/>
        </p:blipFill>
        <p:spPr>
          <a:xfrm>
            <a:off x="4767120" y="1357200"/>
            <a:ext cx="4019760" cy="507204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5" descr="Бурмистрова0002"/>
          <p:cNvPicPr/>
          <p:nvPr/>
        </p:nvPicPr>
        <p:blipFill>
          <a:blip r:embed="rId3"/>
          <a:stretch/>
        </p:blipFill>
        <p:spPr>
          <a:xfrm>
            <a:off x="357120" y="1378080"/>
            <a:ext cx="404676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4"/>
          <p:cNvSpPr/>
          <p:nvPr/>
        </p:nvSpPr>
        <p:spPr>
          <a:xfrm>
            <a:off x="324000" y="260280"/>
            <a:ext cx="842472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бщественно-педагогическая активность педагог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участие в работе педагогических сообществ, комиссий,  жюри конкур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9" name="Picture 4" descr="Бурмистрова"/>
          <p:cNvPicPr/>
          <p:nvPr/>
        </p:nvPicPr>
        <p:blipFill>
          <a:blip r:embed="rId2"/>
          <a:stretch/>
        </p:blipFill>
        <p:spPr>
          <a:xfrm>
            <a:off x="2637000" y="1428840"/>
            <a:ext cx="387000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6"/>
          <p:cNvSpPr/>
          <p:nvPr/>
        </p:nvSpPr>
        <p:spPr>
          <a:xfrm>
            <a:off x="1403280" y="260280"/>
            <a:ext cx="63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1" name="Object 7" descr=""/>
          <p:cNvPicPr/>
          <p:nvPr/>
        </p:nvPicPr>
        <p:blipFill>
          <a:blip r:embed="rId2"/>
          <a:stretch/>
        </p:blipFill>
        <p:spPr>
          <a:xfrm>
            <a:off x="2776680" y="1428840"/>
            <a:ext cx="3590640" cy="5214960"/>
          </a:xfrm>
          <a:prstGeom prst="rect">
            <a:avLst/>
          </a:prstGeom>
          <a:ln w="0">
            <a:noFill/>
          </a:ln>
        </p:spPr>
      </p:pic>
      <p:sp>
        <p:nvSpPr>
          <p:cNvPr id="752" name="Rectangle 11"/>
          <p:cNvSpPr/>
          <p:nvPr/>
        </p:nvSpPr>
        <p:spPr>
          <a:xfrm>
            <a:off x="395280" y="252360"/>
            <a:ext cx="8209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Участие педагога  в профессиональных конкурс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Box 4"/>
          <p:cNvSpPr/>
          <p:nvPr/>
        </p:nvSpPr>
        <p:spPr>
          <a:xfrm>
            <a:off x="2287080" y="814320"/>
            <a:ext cx="456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онкурсы на порталах сети Интер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6"/>
          <p:cNvSpPr/>
          <p:nvPr/>
        </p:nvSpPr>
        <p:spPr>
          <a:xfrm>
            <a:off x="1403280" y="260280"/>
            <a:ext cx="631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11"/>
          <p:cNvSpPr/>
          <p:nvPr/>
        </p:nvSpPr>
        <p:spPr>
          <a:xfrm>
            <a:off x="395280" y="252360"/>
            <a:ext cx="8209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Участие педагога  в профессиональных конкурс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Box 4"/>
          <p:cNvSpPr/>
          <p:nvPr/>
        </p:nvSpPr>
        <p:spPr>
          <a:xfrm>
            <a:off x="2962800" y="814320"/>
            <a:ext cx="32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Республикански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7" name="Picture 4" descr="Грамота0003"/>
          <p:cNvPicPr/>
          <p:nvPr/>
        </p:nvPicPr>
        <p:blipFill>
          <a:blip r:embed="rId2"/>
          <a:stretch/>
        </p:blipFill>
        <p:spPr>
          <a:xfrm>
            <a:off x="2805120" y="1413000"/>
            <a:ext cx="3535200" cy="52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</a:rPr>
              <a:t>Награды и поощр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9" name="Rectangle 3" descr=""/>
          <p:cNvPicPr/>
          <p:nvPr/>
        </p:nvPicPr>
        <p:blipFill>
          <a:blip r:embed="rId2"/>
          <a:stretch/>
        </p:blipFill>
        <p:spPr>
          <a:xfrm>
            <a:off x="5000760" y="1071720"/>
            <a:ext cx="3743280" cy="5589360"/>
          </a:xfrm>
          <a:prstGeom prst="rect">
            <a:avLst/>
          </a:prstGeom>
          <a:ln w="0">
            <a:noFill/>
          </a:ln>
        </p:spPr>
      </p:pic>
      <p:pic>
        <p:nvPicPr>
          <p:cNvPr id="760" name="Object 6" descr=""/>
          <p:cNvPicPr/>
          <p:nvPr/>
        </p:nvPicPr>
        <p:blipFill>
          <a:blip r:embed="rId3"/>
          <a:stretch/>
        </p:blipFill>
        <p:spPr>
          <a:xfrm>
            <a:off x="5003640" y="1052640"/>
            <a:ext cx="3743640" cy="55893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4" descr="Грамота0002"/>
          <p:cNvPicPr/>
          <p:nvPr/>
        </p:nvPicPr>
        <p:blipFill>
          <a:blip r:embed="rId4"/>
          <a:stretch/>
        </p:blipFill>
        <p:spPr>
          <a:xfrm>
            <a:off x="357120" y="1000080"/>
            <a:ext cx="41148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</a:rPr>
              <a:t>Награды и поощр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3" name="Picture 4" descr="Грамота"/>
          <p:cNvPicPr/>
          <p:nvPr/>
        </p:nvPicPr>
        <p:blipFill>
          <a:blip r:embed="rId2"/>
          <a:stretch/>
        </p:blipFill>
        <p:spPr>
          <a:xfrm>
            <a:off x="2590920" y="1071720"/>
            <a:ext cx="396396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Группа 6"/>
          <p:cNvGrpSpPr/>
          <p:nvPr/>
        </p:nvGrpSpPr>
        <p:grpSpPr>
          <a:xfrm>
            <a:off x="696960" y="941400"/>
            <a:ext cx="7750080" cy="5773680"/>
            <a:chOff x="696960" y="941400"/>
            <a:chExt cx="7750080" cy="5773680"/>
          </a:xfrm>
        </p:grpSpPr>
        <p:pic>
          <p:nvPicPr>
            <p:cNvPr id="765" name="Picture 4" descr="Рисунок10"/>
            <p:cNvPicPr/>
            <p:nvPr/>
          </p:nvPicPr>
          <p:blipFill>
            <a:blip r:embed="rId2"/>
            <a:stretch/>
          </p:blipFill>
          <p:spPr>
            <a:xfrm>
              <a:off x="696960" y="941400"/>
              <a:ext cx="3749760" cy="577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Picture 5" descr="Грамота0001"/>
            <p:cNvPicPr/>
            <p:nvPr/>
          </p:nvPicPr>
          <p:blipFill>
            <a:blip r:embed="rId3"/>
            <a:stretch/>
          </p:blipFill>
          <p:spPr>
            <a:xfrm>
              <a:off x="4446720" y="951120"/>
              <a:ext cx="4000320" cy="575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7" name="Rectangle 2"/>
          <p:cNvSpPr/>
          <p:nvPr/>
        </p:nvSpPr>
        <p:spPr>
          <a:xfrm>
            <a:off x="457200" y="214200"/>
            <a:ext cx="822960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Times New Roman"/>
              </a:rPr>
              <a:t>Награды и поощре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000680" y="1285560"/>
            <a:ext cx="4929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Дата рождения: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28.02.1970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Профессиональное образование: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высшее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ГПИ им. М. Е. Евсевьева 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№ диплома ЭВ №048189,  дата выдачи 17 июня 1994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Специальность: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«Педагогика и методика начального обучения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Квалификация: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Общий трудовой стаж: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33 г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Наличие квалификационной категории: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высш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Дата последней аттестации: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на основании приказа № 252 Министерства    образования РМ от 22.03.2018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Picture 6" descr="портрет"/>
          <p:cNvPicPr/>
          <p:nvPr/>
        </p:nvPicPr>
        <p:blipFill>
          <a:blip r:embed="rId2"/>
          <a:stretch/>
        </p:blipFill>
        <p:spPr>
          <a:xfrm>
            <a:off x="285840" y="1357200"/>
            <a:ext cx="3500280" cy="381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12" name="Прямоугольник 6"/>
          <p:cNvSpPr/>
          <p:nvPr/>
        </p:nvSpPr>
        <p:spPr>
          <a:xfrm>
            <a:off x="1500120" y="190440"/>
            <a:ext cx="6143760" cy="73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«Средняя общеобразовательная школа №7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Рузаевского муниципальн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бильные положительные результаты (положительная динамика) освоения обучающимися образовательных программ по итогам мониторингов, проводимых организаци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Бурсмистрова0011"/>
          <p:cNvPicPr/>
          <p:nvPr/>
        </p:nvPicPr>
        <p:blipFill>
          <a:blip r:embed="rId2"/>
          <a:srcRect l="0" t="0" r="18" b="0"/>
          <a:stretch/>
        </p:blipFill>
        <p:spPr>
          <a:xfrm>
            <a:off x="2652840" y="1571760"/>
            <a:ext cx="38383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ожительные результаты освоения обучающимися образовательных программ по итогам внешнего мониторинга системы образов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Picture 3" descr="Бурсмистрова"/>
          <p:cNvPicPr/>
          <p:nvPr/>
        </p:nvPicPr>
        <p:blipFill>
          <a:blip r:embed="rId2"/>
          <a:stretch/>
        </p:blipFill>
        <p:spPr>
          <a:xfrm>
            <a:off x="2448000" y="1571760"/>
            <a:ext cx="42498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13" descr="_wp_sert_sert_202204_ba7494bb08551abdce385ef5ffb0bdc2"/>
          <p:cNvPicPr/>
          <p:nvPr/>
        </p:nvPicPr>
        <p:blipFill>
          <a:blip r:embed="rId2"/>
          <a:stretch/>
        </p:blipFill>
        <p:spPr>
          <a:xfrm>
            <a:off x="4924440" y="1500120"/>
            <a:ext cx="3422520" cy="521496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" descr="Бурмистрова0001"/>
          <p:cNvPicPr/>
          <p:nvPr/>
        </p:nvPicPr>
        <p:blipFill>
          <a:blip r:embed="rId3"/>
          <a:stretch/>
        </p:blipFill>
        <p:spPr>
          <a:xfrm>
            <a:off x="785880" y="1528920"/>
            <a:ext cx="3429000" cy="5184720"/>
          </a:xfrm>
          <a:prstGeom prst="rect">
            <a:avLst/>
          </a:prstGeom>
          <a:ln w="0">
            <a:noFill/>
          </a:ln>
        </p:spPr>
      </p:pic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96960" y="213840"/>
            <a:ext cx="775008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зитивные результаты внеурочной деятельности обучающихся по учебным предмет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Box 4"/>
          <p:cNvSpPr/>
          <p:nvPr/>
        </p:nvSpPr>
        <p:spPr>
          <a:xfrm>
            <a:off x="2909520" y="1071720"/>
            <a:ext cx="332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Дистанционная олимпиа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Object 15" descr=""/>
          <p:cNvPicPr/>
          <p:nvPr/>
        </p:nvPicPr>
        <p:blipFill>
          <a:blip r:embed="rId2"/>
          <a:stretch/>
        </p:blipFill>
        <p:spPr>
          <a:xfrm>
            <a:off x="3492360" y="2133720"/>
            <a:ext cx="2664000" cy="3887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6" descr="6"/>
          <p:cNvPicPr/>
          <p:nvPr/>
        </p:nvPicPr>
        <p:blipFill>
          <a:blip r:embed="rId3"/>
          <a:srcRect l="0" t="0" r="24" b="0"/>
          <a:stretch/>
        </p:blipFill>
        <p:spPr>
          <a:xfrm>
            <a:off x="539640" y="1628640"/>
            <a:ext cx="2808360" cy="388800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96960" y="213840"/>
            <a:ext cx="775008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зитивные результаты внеурочной деятельности обучающихся по учебным предмет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Box 4"/>
          <p:cNvSpPr/>
          <p:nvPr/>
        </p:nvSpPr>
        <p:spPr>
          <a:xfrm>
            <a:off x="4066560" y="1052640"/>
            <a:ext cx="31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униципальны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Object 7" descr=""/>
          <p:cNvPicPr/>
          <p:nvPr/>
        </p:nvPicPr>
        <p:blipFill>
          <a:blip r:embed="rId4"/>
          <a:stretch/>
        </p:blipFill>
        <p:spPr>
          <a:xfrm>
            <a:off x="6300720" y="2565360"/>
            <a:ext cx="266400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18" descr="Кочемаева_page-0001 (1)"/>
          <p:cNvPicPr/>
          <p:nvPr/>
        </p:nvPicPr>
        <p:blipFill>
          <a:blip r:embed="rId2"/>
          <a:stretch/>
        </p:blipFill>
        <p:spPr>
          <a:xfrm>
            <a:off x="571680" y="1643040"/>
            <a:ext cx="3385800" cy="48830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9" descr="Куляпина_page-0001"/>
          <p:cNvPicPr/>
          <p:nvPr/>
        </p:nvPicPr>
        <p:blipFill>
          <a:blip r:embed="rId3"/>
          <a:srcRect l="0" t="0" r="0" b="42"/>
          <a:stretch/>
        </p:blipFill>
        <p:spPr>
          <a:xfrm>
            <a:off x="4964040" y="1643040"/>
            <a:ext cx="3394080" cy="4881600"/>
          </a:xfrm>
          <a:prstGeom prst="rect">
            <a:avLst/>
          </a:prstGeom>
          <a:ln w="0">
            <a:noFill/>
          </a:ln>
        </p:spPr>
      </p:pic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96960" y="213840"/>
            <a:ext cx="775008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зитивные результаты внеурочной деятельности обучающихся по учебным предмет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Box 4"/>
          <p:cNvSpPr/>
          <p:nvPr/>
        </p:nvSpPr>
        <p:spPr>
          <a:xfrm>
            <a:off x="1116000" y="105264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Республикански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50080" cy="596880"/>
          </a:xfrm>
          <a:prstGeom prst="rect">
            <a:avLst/>
          </a:prstGeom>
          <a:solidFill>
            <a:srgbClr val="ffffff"/>
          </a:solidFill>
          <a:ln w="1908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личие публик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Object 4" descr=""/>
          <p:cNvPicPr/>
          <p:nvPr/>
        </p:nvPicPr>
        <p:blipFill>
          <a:blip r:embed="rId2"/>
          <a:stretch/>
        </p:blipFill>
        <p:spPr>
          <a:xfrm>
            <a:off x="2693880" y="1357200"/>
            <a:ext cx="3756240" cy="5286600"/>
          </a:xfrm>
          <a:prstGeom prst="rect">
            <a:avLst/>
          </a:prstGeom>
          <a:ln w="0">
            <a:noFill/>
          </a:ln>
        </p:spPr>
      </p:pic>
      <p:sp>
        <p:nvSpPr>
          <p:cNvPr id="732" name="TextBox 3"/>
          <p:cNvSpPr/>
          <p:nvPr/>
        </p:nvSpPr>
        <p:spPr>
          <a:xfrm>
            <a:off x="2927160" y="8859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нтернет-публик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457200" y="8571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Муниципальный уров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4" name="Picture 4" descr="табель"/>
          <p:cNvPicPr/>
          <p:nvPr/>
        </p:nvPicPr>
        <p:blipFill>
          <a:blip r:embed="rId2"/>
          <a:srcRect l="0" t="0" r="-24" b="13"/>
          <a:stretch/>
        </p:blipFill>
        <p:spPr>
          <a:xfrm>
            <a:off x="5572080" y="1500120"/>
            <a:ext cx="2857680" cy="506268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2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50080" cy="596880"/>
          </a:xfrm>
          <a:prstGeom prst="rect">
            <a:avLst/>
          </a:prstGeom>
          <a:solidFill>
            <a:srgbClr val="ffffff"/>
          </a:solidFill>
          <a:ln w="19080">
            <a:solidFill>
              <a:srgbClr val="10253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личие публик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3699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1</cp:lastModifiedBy>
  <dcterms:modified xsi:type="dcterms:W3CDTF">2022-12-06T06:40:27Z</dcterms:modified>
  <cp:revision>230</cp:revision>
  <dc:subject/>
  <dc:title>Роль ПНПО в развитии (модернизации) образования стра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360000000000010292010207f7000400038000</vt:lpwstr>
  </property>
</Properties>
</file>